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5D2-67B6-4A90-8D8E-20370F3C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B11-1DE3-46CE-9180-4DCF518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028-838D-4D9F-BCFA-7368E804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5C6-B688-4F88-B620-704C36C7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3A8-AD8D-42F9-B309-82C0E4D1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369-E769-47B5-85C8-49266BE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5D1-7B5F-4936-80A1-4EDB149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109-6693-4DE2-80BA-51C1470D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02F-135B-49CF-BB73-78E9A378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B60-1FCC-4EAE-B898-613B0D7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037-ACEE-4ADF-8FEB-15AE9BF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268-47A9-4101-9806-D66AC62F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6662-3E01-4A0D-9731-DF5DA38F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file:///tmp/home/.config/libreoffice/4/user/gallery/MSSN00740A0000%5B1%5D.wav" TargetMode="External"/><Relationship Id="rId4" Type="http://schemas.microsoft.com/office/2007/relationships/media" Target="file:///tmp/home/.config/libreoffice/4/user/gallery/MSSN00740A0000%5B1%5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story of the buckey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ke Golec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. Embr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#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10320" y="44956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095880" y="5638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3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867280" y="0"/>
            <a:ext cx="3276720" cy="1676520"/>
          </a:xfrm>
          <a:prstGeom prst="cloudCallout">
            <a:avLst>
              <a:gd name="adj1" fmla="val -31490"/>
              <a:gd name="adj2" fmla="val 135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457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buckey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457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a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8380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22:15:26Z</dcterms:created>
  <dc:creator>John</dc:creator>
  <dc:description/>
  <dc:language>en-US</dc:language>
  <cp:lastModifiedBy>John</cp:lastModifiedBy>
  <dcterms:modified xsi:type="dcterms:W3CDTF">2008-11-18T22:25:38Z</dcterms:modified>
  <cp:revision>2</cp:revision>
  <dc:subject/>
  <dc:title>The history of the buckeyes </dc:title>
</cp:coreProperties>
</file>